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3916-B58A-4BF0-8F9B-2894EF00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0407-081C-426E-916E-9398CC47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6013-674A-4466-93DC-C45224D65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B7E7-CE6B-49F0-B4BB-CA6D016F6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AEBC-E60D-464F-B3A8-726423BA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236D-9877-4456-B678-1E472384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A287-76B9-4AE8-90BB-2DE5C11C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B0C8-722F-46FD-8444-D38FD571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2533-2E75-49C7-8D86-E62D1510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BD0D-F13F-43AC-BD7F-BF608357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9CCF-C4CE-407A-94B5-41107C64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E144-F195-4153-AC1E-5AA20BAB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4BD0-833C-41CC-8278-8D7FE6F710F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920" y="980640"/>
            <a:ext cx="8424720" cy="4824360"/>
          </a:xfrm>
          <a:prstGeom prst="rect">
            <a:avLst/>
          </a:prstGeom>
          <a:solidFill>
            <a:srgbClr val="ffffff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ساب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هم أساليب التحليل الكمي المستخ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ي تحليل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8F9B-0921-4A83-98AC-D73C46813E7E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17280"/>
            <a:ext cx="7772400" cy="1143000"/>
          </a:xfrm>
          <a:prstGeom prst="rect">
            <a:avLst/>
          </a:prstGeom>
          <a:solidFill>
            <a:srgbClr val="e7e5e1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ويات التحلي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2455920"/>
            <a:ext cx="3581640" cy="8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ستوى المشرو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3809880"/>
            <a:ext cx="35812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ستوى الصنا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5157720"/>
            <a:ext cx="42670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ستوى العالم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83D1-F033-447B-BB54-ABBFEF448EE6}" type="slidenum">
              <a:t>2</a:t>
            </a:fld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741600" y="1477800"/>
            <a:ext cx="7660800" cy="1031400"/>
          </a:xfrm>
          <a:prstGeom prst="rect">
            <a:avLst/>
          </a:prstGeom>
          <a:solidFill>
            <a:srgbClr val="e7e5e1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ساليب المستخدم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36560" y="3366720"/>
            <a:ext cx="7585200" cy="2162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3" marL="1371600" algn="just" rtl="1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مقارنات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 rtl="1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عدلات التغي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 rtl="1">
              <a:lnSpc>
                <a:spcPct val="100000"/>
              </a:lnSpc>
              <a:spcBef>
                <a:spcPts val="60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توسط النسب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0E85-0F77-401B-AC38-FCE22388DC63}" type="slidenum">
              <a:t>3</a:t>
            </a:fld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1203120"/>
            <a:ext cx="7772760" cy="763920"/>
          </a:xfrm>
          <a:prstGeom prst="rect">
            <a:avLst/>
          </a:prstGeom>
          <a:gradFill rotWithShape="0">
            <a:gsLst>
              <a:gs pos="0">
                <a:srgbClr val="e7e5e1"/>
              </a:gs>
              <a:gs pos="50000">
                <a:srgbClr val="ffffcc"/>
              </a:gs>
              <a:gs pos="100000">
                <a:srgbClr val="e7e5e1"/>
              </a:gs>
            </a:gsLst>
            <a:lin ang="5400000"/>
          </a:gra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قاييس النزعة المركزية (المتوسطات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2492280"/>
            <a:ext cx="7772400" cy="3816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متوسط  = المجموع/العدد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خاصة على مستوى الصنا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وسيط = عدد المرات +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 /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منوال = القيمة الاكثر شيوع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4472-7A7A-4099-ABCB-239756427FAF}" type="slidenum">
              <a:t>4</a:t>
            </a:fld>
          </a:p>
        </p:txBody>
      </p:sp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11280" y="1699920"/>
            <a:ext cx="7772760" cy="912240"/>
          </a:xfrm>
          <a:prstGeom prst="rect">
            <a:avLst/>
          </a:prstGeom>
          <a:gradFill rotWithShape="0">
            <a:gsLst>
              <a:gs pos="0">
                <a:srgbClr val="c7cfc1"/>
              </a:gs>
              <a:gs pos="50000">
                <a:srgbClr val="ffffff"/>
              </a:gs>
              <a:gs pos="100000">
                <a:srgbClr val="c7cfc1"/>
              </a:gs>
            </a:gsLst>
            <a:lin ang="5400000"/>
          </a:gra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قاييس الاختلاف والتشت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1400" y="3571920"/>
            <a:ext cx="7716960" cy="23781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50000">
                <a:srgbClr val="e7e5e1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معرفة مدى تجمع قيم النسب المالية أو تشتتها حول المتوسط الحسابي عن طريق حساب الانحراف المعياري لكل نسبة من النس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1B8F-E55C-43F9-A2B8-6AA7FAB89116}" type="slidenum">
              <a:t>5</a:t>
            </a:fld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1058760"/>
            <a:ext cx="777276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لاقات الارتباط والانحد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2920" y="2427120"/>
            <a:ext cx="8893080" cy="402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رتباط هو التلازم بين متغيرين تلازما كميا بحيث تؤدي الزيادة في أحد المتغيرين الى زيادة المتغير الآخر أو العك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يقاس عن طريق حساب معامل ارتباط بيرسون أو سبيرما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قربه من الواحد الصحيح يشير الى وجود ارتباط قوي موجب بين المتغير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91320" y="641664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25BC-8BD3-4DAA-8C63-67C9DD9E5E2F}" type="slidenum">
              <a:t>6</a:t>
            </a:fld>
          </a:p>
        </p:txBody>
      </p:sp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Abu-Ali</cp:lastModifiedBy>
  <dcterms:modified xsi:type="dcterms:W3CDTF">2004-04-06T17:12:41Z</dcterms:modified>
  <cp:revision>22</cp:revision>
  <dc:subject/>
  <dc:title>التحليل المالي والائتماني</dc:title>
</cp:coreProperties>
</file>